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D69-43D0-4D9B-8751-291B1A09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C37-997E-4E7D-BB76-6FDEA399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42C-0B37-4E03-BDEC-35F17C3F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885-893A-4ED0-B3CB-0BD8D4D3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33B-1DFB-4855-B601-E6F56165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2AB-E708-44F0-9AEE-CB525C7F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B2F-9B10-4F2E-8C00-27EF11F2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8B6-E1C8-4956-BBD9-D6E8B9D9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5E1-3CEC-4A7C-8E3B-EBD1E65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D9E-3321-4B64-9972-3BCDA396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639-CCE8-4E73-BC75-D088AE60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DE4-2365-4E57-B7EC-4150EF2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BEA3-36F2-4D83-BE85-11165217E1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990720"/>
            <a:ext cx="1600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uede cambiar de temper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990720"/>
            <a:ext cx="1981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rce una presión sobre la superficie terres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990720"/>
            <a:ext cx="20574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tá compuesta de masas de aire, temperatura, humedad y presión di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99072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mu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3856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ATMÓ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tempera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pre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7524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precipit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752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v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209680"/>
            <a:ext cx="2225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stituyen los princip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2666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LEMENTOS DEL CL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200400"/>
            <a:ext cx="5791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xplican por un conjunto de mecanismos e influencias que constituy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6920" y="3733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ACTORES DEL CL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27240" y="4267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astronó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4267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teo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37320" y="4267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geográf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8640" y="4724280"/>
            <a:ext cx="761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6720" y="4724280"/>
            <a:ext cx="1066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vimientos de la Tier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84640" y="472428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s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22720" y="4724280"/>
            <a:ext cx="914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entros de a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3440" y="4724280"/>
            <a:ext cx="761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56440" y="4724280"/>
            <a:ext cx="761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94520" y="4724280"/>
            <a:ext cx="1447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istribución de tierras y m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6920" y="54864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 actuación conjunta de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095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</a:rPr>
              <a:t>Distribución de los climas de Espa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5" idx="1"/>
            <a:endCxn id="41" idx="0"/>
          </p:cNvCxnSpPr>
          <p:nvPr/>
        </p:nvCxnSpPr>
        <p:spPr>
          <a:xfrm flipV="1" rot="10800000">
            <a:off x="1409040" y="534240"/>
            <a:ext cx="1829520" cy="456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1" idx="2"/>
            <a:endCxn id="46" idx="0"/>
          </p:cNvCxnSpPr>
          <p:nvPr/>
        </p:nvCxnSpPr>
        <p:spPr>
          <a:xfrm rot="16200000">
            <a:off x="1258200" y="1600920"/>
            <a:ext cx="303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6" idx="2"/>
            <a:endCxn id="50" idx="1"/>
          </p:cNvCxnSpPr>
          <p:nvPr/>
        </p:nvCxnSpPr>
        <p:spPr>
          <a:xfrm flipH="1" rot="16200000">
            <a:off x="2343600" y="1125000"/>
            <a:ext cx="303840" cy="2172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45" idx="1"/>
            <a:endCxn id="42" idx="0"/>
          </p:cNvCxnSpPr>
          <p:nvPr/>
        </p:nvCxnSpPr>
        <p:spPr>
          <a:xfrm flipH="1" flipV="1" rot="10800000">
            <a:off x="3238560" y="534240"/>
            <a:ext cx="343080" cy="456480"/>
          </a:xfrm>
          <a:prstGeom prst="bentConnector4">
            <a:avLst>
              <a:gd name="adj1" fmla="val -256617"/>
              <a:gd name="adj2" fmla="val -100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45" idx="3"/>
            <a:endCxn id="44" idx="0"/>
          </p:cNvCxnSpPr>
          <p:nvPr/>
        </p:nvCxnSpPr>
        <p:spPr>
          <a:xfrm>
            <a:off x="6134040" y="534600"/>
            <a:ext cx="1486440" cy="456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45" idx="3"/>
            <a:endCxn id="43" idx="0"/>
          </p:cNvCxnSpPr>
          <p:nvPr/>
        </p:nvCxnSpPr>
        <p:spPr>
          <a:xfrm flipH="1">
            <a:off x="5829120" y="534600"/>
            <a:ext cx="305280" cy="456480"/>
          </a:xfrm>
          <a:prstGeom prst="bentConnector4">
            <a:avLst>
              <a:gd name="adj1" fmla="val -313223"/>
              <a:gd name="adj2" fmla="val -100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42" idx="2"/>
            <a:endCxn id="47" idx="0"/>
          </p:cNvCxnSpPr>
          <p:nvPr/>
        </p:nvCxnSpPr>
        <p:spPr>
          <a:xfrm flipH="1" rot="16200000">
            <a:off x="3449160" y="1581840"/>
            <a:ext cx="303120" cy="38520"/>
          </a:xfrm>
          <a:prstGeom prst="bentConnector3">
            <a:avLst>
              <a:gd name="adj1" fmla="val 506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43" idx="2"/>
            <a:endCxn id="48" idx="0"/>
          </p:cNvCxnSpPr>
          <p:nvPr/>
        </p:nvCxnSpPr>
        <p:spPr>
          <a:xfrm rot="16200000">
            <a:off x="5769000" y="1692360"/>
            <a:ext cx="120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4" idx="2"/>
            <a:endCxn id="49" idx="0"/>
          </p:cNvCxnSpPr>
          <p:nvPr/>
        </p:nvCxnSpPr>
        <p:spPr>
          <a:xfrm flipH="1" rot="16200000">
            <a:off x="7396200" y="1490760"/>
            <a:ext cx="485640" cy="38160"/>
          </a:xfrm>
          <a:prstGeom prst="bentConnector3">
            <a:avLst>
              <a:gd name="adj1" fmla="val 50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7" idx="2"/>
            <a:endCxn id="50" idx="0"/>
          </p:cNvCxnSpPr>
          <p:nvPr/>
        </p:nvCxnSpPr>
        <p:spPr>
          <a:xfrm flipH="1" rot="16200000">
            <a:off x="4081680" y="1596960"/>
            <a:ext cx="150480" cy="1074960"/>
          </a:xfrm>
          <a:prstGeom prst="bentConnector3">
            <a:avLst>
              <a:gd name="adj1" fmla="val 4844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48" idx="2"/>
            <a:endCxn id="50" idx="0"/>
          </p:cNvCxnSpPr>
          <p:nvPr/>
        </p:nvCxnSpPr>
        <p:spPr>
          <a:xfrm rot="5400000">
            <a:off x="5186160" y="1567080"/>
            <a:ext cx="150480" cy="1135440"/>
          </a:xfrm>
          <a:prstGeom prst="bentConnector3">
            <a:avLst>
              <a:gd name="adj1" fmla="val 4844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49" idx="2"/>
            <a:endCxn id="50" idx="3"/>
          </p:cNvCxnSpPr>
          <p:nvPr/>
        </p:nvCxnSpPr>
        <p:spPr>
          <a:xfrm rot="5400000">
            <a:off x="6580440" y="1285920"/>
            <a:ext cx="303840" cy="1851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50" idx="2"/>
            <a:endCxn id="51" idx="0"/>
          </p:cNvCxnSpPr>
          <p:nvPr/>
        </p:nvCxnSpPr>
        <p:spPr>
          <a:xfrm rot="16200000">
            <a:off x="4619160" y="2591640"/>
            <a:ext cx="150480" cy="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51" idx="2"/>
            <a:endCxn id="52" idx="0"/>
          </p:cNvCxnSpPr>
          <p:nvPr/>
        </p:nvCxnSpPr>
        <p:spPr>
          <a:xfrm flipH="1" rot="16200000">
            <a:off x="4626720" y="3102480"/>
            <a:ext cx="165600" cy="30600"/>
          </a:xfrm>
          <a:prstGeom prst="bentConnector3">
            <a:avLst>
              <a:gd name="adj1" fmla="val 485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2" idx="2"/>
            <a:endCxn id="53" idx="0"/>
          </p:cNvCxnSpPr>
          <p:nvPr/>
        </p:nvCxnSpPr>
        <p:spPr>
          <a:xfrm flipH="1" rot="16200000">
            <a:off x="4634280" y="3597480"/>
            <a:ext cx="226800" cy="46440"/>
          </a:xfrm>
          <a:prstGeom prst="bentConnector3">
            <a:avLst>
              <a:gd name="adj1" fmla="val 510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3" idx="2"/>
            <a:endCxn id="55" idx="0"/>
          </p:cNvCxnSpPr>
          <p:nvPr/>
        </p:nvCxnSpPr>
        <p:spPr>
          <a:xfrm rot="5400000">
            <a:off x="4683960" y="4180680"/>
            <a:ext cx="165240" cy="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53" idx="1"/>
            <a:endCxn id="54" idx="0"/>
          </p:cNvCxnSpPr>
          <p:nvPr/>
        </p:nvCxnSpPr>
        <p:spPr>
          <a:xfrm flipV="1" rot="10800000">
            <a:off x="1874520" y="3917880"/>
            <a:ext cx="1562400" cy="34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53" idx="3"/>
            <a:endCxn id="56" idx="0"/>
          </p:cNvCxnSpPr>
          <p:nvPr/>
        </p:nvCxnSpPr>
        <p:spPr>
          <a:xfrm>
            <a:off x="6103800" y="3917880"/>
            <a:ext cx="1105200" cy="34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4" idx="2"/>
            <a:endCxn id="65" idx="0"/>
          </p:cNvCxnSpPr>
          <p:nvPr/>
        </p:nvCxnSpPr>
        <p:spPr>
          <a:xfrm flipH="1" rot="16200000">
            <a:off x="4801680" y="5944680"/>
            <a:ext cx="272520" cy="30600"/>
          </a:xfrm>
          <a:prstGeom prst="bentConnector3">
            <a:avLst>
              <a:gd name="adj1" fmla="val 50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914400" y="4267080"/>
            <a:ext cx="2057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4267080"/>
            <a:ext cx="2895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26708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49568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irculación general atmosfé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5:16:41Z</dcterms:created>
  <dc:creator>Salvador Sanchez Garcia</dc:creator>
  <dc:description/>
  <dc:language>en-US</dc:language>
  <cp:lastModifiedBy>Salvador</cp:lastModifiedBy>
  <dcterms:modified xsi:type="dcterms:W3CDTF">2007-10-14T10:11:42Z</dcterms:modified>
  <cp:revision>3</cp:revision>
  <dc:subject/>
  <dc:title>Presentación de PowerPoint</dc:title>
</cp:coreProperties>
</file>